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23C8-AFE5-4FDE-8DBE-DADA32D5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9EA4-F08C-4B2F-B94A-233EA57A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2EFA-5106-4535-A96C-8A4BF918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19AB-FD47-4B5C-90B4-377143D5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1A14-396F-47D4-86F3-FA860D90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7C08-6622-46FD-92C2-F9F377FC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381F-8BB9-413C-A0AA-821194FF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2C93-BC74-4EA4-9C18-397E2625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1B36-0BB9-48F8-B77A-EDF38C1D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39A2-BBD5-4C21-AA2A-CB72C6B0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0C3A-3CBD-4FAE-8155-15D6C486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4F1D-6987-4711-A6E9-1E759548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F007-7917-4B83-8DA8-E606524A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3971-D6E1-413D-8533-BE033614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A8B5-2DB3-4664-BE01-342B0A89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5394-2219-41D5-BFCA-B3859BFD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B780-3CA7-46B0-A69F-C949A7D0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6B8C-978B-492F-A4B4-5EF0440B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0082-F9FB-4FA3-804E-97D6A9B5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FBE1-4B4A-4B80-BC5E-00989A8F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8BA5-7BF1-4F60-A5B2-7A9D6358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373B-8D3E-4B99-AA20-2AD5BF52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DBCF-73F2-41FE-98AE-E4EADB60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CD88-65AD-47DE-AAA3-BA3AE479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379B-6E2B-440C-A01C-A83411A0AA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863A-57E9-4A79-93FD-3379216388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"/>
              </a:rPr>
              <a:t>Windows and File Management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Concepts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naging Folders &amp; Fil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folders to organize all of your fi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files &amp; folders must have a n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it easy to remember &amp; have it relate to con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lenam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 can have up to 255 character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so have 3-letter ext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tensions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the type of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doc for MS Word document; .xls for MS Excel; .ppt for MS Power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naging Folders &amp; Fil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eating fold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ile, New, Fol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ake A New Fold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ink in File &amp; Folders Task P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t. Click in Window: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New, Fol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nam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t. Click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n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leting folders/fi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t. Click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leted Folders also delete any files inside of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deleted folders/files go to the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ecycle B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Recycle Bin is emptied; it is permanently g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want to restore file from RB, you c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opying &amp; Moving Fil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file to be cop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stination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location where the copied or moved file will res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pying a fil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llows you to create a duplicate of it in a different location. Original version stays in original loc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ving a fil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llows you to move a file/folder from its original location to a new loc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Expanding &amp; Collapsing Drives &amp; Folder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Windows Explorer,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lders Pan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plays the folders on your computer in a hierarch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ents Pan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plays the contents of the disk or folder selected in the Folders P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176720" cy="3395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572000" y="60958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c1302"/>
                </a:solidFill>
                <a:latin typeface="Arial"/>
              </a:rPr>
              <a:t>Folders Pane, Contents Pane, F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Getting Help &amp; Support in Window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ndows provides you with online assist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ndows also provides The Help &amp; Support feature to assist you with troubleshooting 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Acces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tart, Help &amp;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tart, Control Panel, Help (Menu Bar), Help &amp;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les, folders, &amp; disks are your key system 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ndows provides 2 tools for browsing, accessing and managing these resources: My Computer &amp; Windows Explor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ile Managemen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le Managemen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process of organizing and keeping track of your fi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ndation of tools:  files, folders, &amp; di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les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include a wide range of ob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instructions for the computer to operate (executable files or program fi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a text document you read (document f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contain an i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ile Managemen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lder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a container used to store &amp; organize your fil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stored on a disk &amp; can also have subfol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k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here files, folders, &amp; subfolders are stor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include floppy disks, hard disks, CDs, DVDs, Zip disks, PC Cards, and mobile storage devices (USB flash drives, memory cards or stick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The GUI for Windows XP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you turn your computer on, a symbolic desktop is displayed. Icons represent folders, files, programs &amp; other object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aphical User Interface allows you to click icons to execute comma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The Windows Desktop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4290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skb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Displays all current “tasks” being 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skt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rt Button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access to My Computer &amp; other programs/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c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457200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The My Computer Windo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start My Computer from the Start Menu on the Taskb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y Computer Window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ntains 2 document folders: Shared Documents &amp; a User Fol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ared Document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available to other users on the net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er Folde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Your personal folder on the net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The My Computer Windo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y Computer Window has 2 types of icons:  Disk drive icons &amp; Folder ic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k drive icon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dentify drives available on your syste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886200" y="3408480"/>
            <a:ext cx="4667400" cy="3449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0880" y="3809880"/>
            <a:ext cx="2438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D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The My Computer Windo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 Ter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rrange in Group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llows you to group files by detail, name, size, type, or date modifi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umbnai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files/folders displayed as a small image with name undernea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il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iles/folders displayed as a large ic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con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played as a small i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ist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plays the contents of folder as a list with a very small icon to the left of the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tai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contains all information related to the file (name, type, size, date modifi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lmstrip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ictures appear in a single row of thumbnail im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03:15:39Z</dcterms:created>
  <dc:creator>LDSD</dc:creator>
  <dc:description/>
  <dc:language>en-US</dc:language>
  <cp:lastModifiedBy>LDSD</cp:lastModifiedBy>
  <dcterms:modified xsi:type="dcterms:W3CDTF">2010-03-01T05:30:11Z</dcterms:modified>
  <cp:revision>14</cp:revision>
  <dc:subject/>
  <dc:title>Windows and File Management</dc:title>
</cp:coreProperties>
</file>